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DFB-0C86-4FD0-BCD4-38FF21E9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E1B-CA8A-4062-BE25-7D2D407A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A81A9-B928-415D-9631-960C9DAB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5462D-429F-4454-8A82-3F252DA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07955-3816-4483-B652-E0CFC7F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68295-B6AE-4E10-BAB5-575D30C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3572A-C6E9-49FA-8407-2EF13625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8248C-E78D-405C-AA45-E3823A4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00DBC-A52D-4F73-B9AF-A15D9A1B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28CA7-CEB5-42AD-9EB0-A3A35495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3345D-BCF4-47FD-89FF-3EEF922B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09E69-F662-4013-9FC1-B5FD344C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7A7-62BE-4DB3-83AC-88553560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6FC11-D95D-4EDB-A8C2-3F1C881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80201-22BC-43AD-AF7D-F7496C19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78CD8-C772-4840-AB00-36083DCF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6766D-C68F-4265-BB2E-066C832F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906E2-9060-479F-8D18-D5BE8D97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23628-D898-4238-B343-5BE555CF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C9E97-18D6-408F-B441-9482197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D4B2E-2ACA-4E65-80C8-A7531AF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CE9F3-639C-46C1-AF7C-D32830D1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F4AB9-FBAF-4D4D-8EB4-C4E3051E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3A8-7936-463B-B5BC-17324B66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FDD8E-A0E5-4401-8F9D-64CDCA0C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4D088-9474-49BA-A15D-EF042B91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E7C52-53DD-4EA2-B0AD-6A5F239D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D13CF-6F7A-43FF-8DAC-F956197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DA254-BA03-4105-8A95-E736591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13E3-596C-4EDD-BF0C-2CE99884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3996-101A-4C86-BEAD-61146830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8B2B9-CC02-46E2-9AB1-CD6CFB9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064E1-0D9D-467B-A8AA-1503471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81926-D1C4-484E-9226-280441D2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A153-4BAA-451B-BD43-AA759420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E13D-91D5-4201-BE90-9A276EE1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4AB21-B9CA-44A9-94FD-DCC3CF48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63A17-DA2B-4139-B6E1-DEF492C6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A950F-B361-4528-B773-13ACBA8C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09AEC-957D-4E4E-AF0E-335B9516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325F5-A6E5-43F4-9452-343C902F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310ED-9260-4CA6-9476-C16C63E5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C58F0-055E-4BB1-9266-3ECBECE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5CE8B-3AE4-4B47-BF67-1B4D765F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DF8AE-04C4-45D7-8208-A5B7C2D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13A2-ECA4-483E-8DAC-1996EBD0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0401A-6B3B-44B5-B299-72568AD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C3ADE-5CE5-444E-BE80-B4DE4E5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9B42E-4FCB-4B83-8A02-252B485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D296A-FA7C-43CF-B4A4-053F67A0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FA65D-6ED7-463D-94EB-D1FBF2C6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0D44-BCAE-401B-A2B0-45FBB3F4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9AFA-762C-42A9-BDFA-D95C32C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EFEF-46B5-45BF-82D9-90082BD5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480F-CBCF-4F2B-83EF-04BC2AD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9443-65C7-493F-AB9D-6E5111D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993-4031-4B5D-8250-F781A229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5849-632E-4BCC-B078-B6800E66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A9FC-FE56-4CB3-A73F-905C951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B566-B576-4619-AB95-DF754B51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179-67FE-4050-82B6-BD40B8F3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8C85-3BDB-46D5-A2C6-9C083273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566A-D7BA-41F1-BE0F-C10B53FC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35DE-7B8E-41A1-8A3D-B6C5F4D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11E8-EDB6-4FA5-A1CF-8F319278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DB80-997E-4E63-B32A-6C64156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137D-04D0-4427-A45B-CE0EAB4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EAF-D840-4418-A7A4-B0C8B1AC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5C69-5789-4D6D-87B2-8E2D3A0D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6A1D-8ED4-4EAC-9E74-B1F92D75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76C7-3946-437F-81FD-5052E9B5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8FE0-1E63-4993-BBBC-CD7D460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57AC-6DA4-48D0-8B56-715FD439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0577-2A44-48C4-BBF1-5A00ECE2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72B1-484F-481B-BF8A-55E2685C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281F-7D5D-42CF-B356-2C8A6A02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A8287-93E9-4476-B62A-25BABB1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EFF3-EFB4-4BDA-AAD7-F6F1B44B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D08-C795-43F6-8764-59D32210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5AD2-C7C7-4C29-B1C9-5B3CAD76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D013E-AD0B-4185-9552-6A4F445B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3082-5F47-4611-8A00-9024A34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5CB1-DCDE-4574-A9D9-26A3AA9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B7E9-2972-4E18-BD2D-3320D52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16A8-53F1-425E-8A31-B1EFB8C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1FFA-5885-4FCC-B1EC-133A6C38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9F80D-F0B8-49B4-8EF6-84604BD8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C037-30EB-4735-B11E-56E3B106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D796-D398-4238-82EE-B1C121B0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501-C16D-48F5-92EB-A5E6AAEF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17D7-0FFA-459F-9569-0B347DD1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8EE1-A9EC-4266-8BFE-EF45ECE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11A0-7C72-4161-BEF1-FAF91D81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59AEC-D886-40A0-9FD0-127D677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2245-21AB-4E7E-8D30-B70431A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601F-BFC9-4005-9B58-09F3C8B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71BB-430E-4B7B-BC76-A4752DB2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5EA0-DD7E-4D9C-8414-9284913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C3F8-71AF-4400-9789-C73FB775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543F-6809-45ED-9B5B-9880FAD5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C5D-B145-4AC0-83A4-2BA1C92E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2A220-151B-494A-9A8E-C938AE96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974C-0557-4E1E-A394-AF0289AF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3D165-C9B7-40F3-B6C0-8891054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C334-574F-450A-932C-C9EE290D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AB2DA-FA38-43CD-93C9-43644CAB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63E04-2A87-46A6-88F0-1215814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7ABC9-A212-464A-AA7E-25BB7B7A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0DE60-00F5-4CE7-BEB2-92F1109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4A8A-8C32-4B3D-AE95-A5B4746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EDDD6-0670-4604-9B8B-BB0CF4D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C46-512F-4765-8D4D-0DAA2202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BC26-FFE6-49A0-B97C-E9891DC4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B3FC-DE8D-4114-AAAF-9BBB6DC5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65E0-E46A-46F1-981F-66CF6CD7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3000A-C913-4380-A7EB-60CB1D8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CA822-161A-47C5-8292-CFAD598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7E51-856F-49C5-94B5-0D963E1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76EC-B052-4733-938E-B46686E5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5C54-97F6-4E51-951F-EE441ED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7788-4B33-4386-9048-3EEB7BA6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57B3E-6438-430F-90F0-AFA16ED2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C7D-8738-45B5-BB4B-2ADAF2A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3A9E-B8BA-499B-8751-7706E8D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B6137-687A-4DC8-9716-DE9C60D7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C257B-C3CA-4DA0-B12F-B0AA810D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C492-21DE-4089-B9B3-2A8ABC49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E2B9-2503-42AB-9C78-918E0299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F0532-FDF7-4039-8707-2B294EBB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FF46-7AE1-4D38-AD0E-479E1A7E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5CA0-46A8-43F1-BD12-E3144A0E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F0BB2-53DE-4A2D-85D2-5C619231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12CD7-FD38-4008-83A0-48E6EEDB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833-281C-4DC7-B45B-0F5D465C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8AFC4-BFF4-4943-BE5A-002F408F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557C0-FF7A-439E-8477-7747228D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C0D11-C473-4FC4-A75E-E8D1DC82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114B-501C-4057-AE0A-27CA6C33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6F332-044F-46BF-8064-BE60DDD6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31F2D-A2BC-4DDB-AC9F-536FC2EF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AD824-4907-41EC-BC23-8DED59A1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AE08A-B1AC-4BB4-B295-F2050EEF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BB165-FDCA-4D18-BB6E-861644DC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2918D-5AA6-4A7E-86AB-6B7FE5FA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92EC-8AE3-4C6E-905C-B04B9927CF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A3F-AEC0-4519-8F14-ABED6D317A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01D9-CD58-4A56-96B6-42901C4F6E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0E26-9B51-4097-9898-7499DC5AB6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7B5E-892A-46D2-8790-C7640CB3B0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B630-CFCE-48C0-967A-7E3D9E038C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5FED-F656-4716-8FEC-9FA06A4740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C4D8-3E8E-4C03-B568-2A6D019C6F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FAE9-D788-40FF-ABB4-59C1138BD5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2071-5BE2-42BE-B10E-68BC121072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9837-EF17-4E5B-B891-F998B9D97C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B71A-4F20-41F6-8E67-DCD02D39B8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4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Ty, Pane, zosta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ň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s nami le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, Pane, zostaň s nami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sa už stmieva, hasne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v tiesn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priek n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t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jas tvojej tváre svieti ná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Slovo tvoje v tento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šík bratskej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omkne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pridá viery, nových sí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y zbor náš na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tvoju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l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Duchom sv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sväť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priprav na ten slávny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ätosti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ám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kvie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 tvárou v tvár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ceme zr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50:37Z</dcterms:modified>
  <cp:revision>23</cp:revision>
  <dc:subject/>
  <dc:title>Je veľký náš Pán, on slávy je Kráľ Nech do všetkých strán  spev vrúcnych znie chvál.</dc:title>
</cp:coreProperties>
</file>